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EC1-BDE2-435A-9D68-E737D276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92D-F4A2-4E66-92C1-DD27B4DE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29A-B1A5-4D1D-BCF4-478F233F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BFC-B928-4806-B995-8547A0A5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C10-E87C-4259-9926-23BEBEC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207-78DA-4A2D-BA25-6DBC17C6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40D-A45D-4300-9A17-803621B2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1E8-8EDD-43DC-AC96-C9ED298F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6FF-272B-4697-9AE5-807B5EA0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893-5B3E-466E-B55B-1FF56AC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0B5-03B4-4EDB-B955-2A41C056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7A6-F6BF-4380-A5AD-6CA4393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27C-0677-4057-B993-91B76096A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143000" y="1981080"/>
            <a:ext cx="67057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w to calculate the area of a circ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09680" y="4267080"/>
            <a:ext cx="4648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52480" y="41911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t’s as easy as p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, circumference = diameter x 3.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48120" y="3733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685800" y="502920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715000" y="2590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0" y="60199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 flipV="1">
            <a:off x="3154320" y="3190680"/>
            <a:ext cx="2683080" cy="108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 flipV="1">
            <a:off x="744120" y="4622400"/>
            <a:ext cx="2778840" cy="81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5741640" y="2315880"/>
            <a:ext cx="2842200" cy="551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42840" y="584496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4"/>
          <p:cNvSpPr/>
          <p:nvPr/>
        </p:nvSpPr>
        <p:spPr>
          <a:xfrm flipV="1">
            <a:off x="3279240" y="254880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896760" y="42008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5754960" y="1720440"/>
            <a:ext cx="2815560" cy="67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4"/>
          <p:cNvSpPr/>
          <p:nvPr/>
        </p:nvSpPr>
        <p:spPr>
          <a:xfrm flipV="1">
            <a:off x="3279240" y="285372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 flipV="1">
            <a:off x="744480" y="44294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6077880" y="1001520"/>
            <a:ext cx="2474640" cy="1503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 flipV="1">
            <a:off x="3279240" y="3082320"/>
            <a:ext cx="2585520" cy="1304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744480" y="4429440"/>
            <a:ext cx="2473560" cy="1505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5925600" y="1458720"/>
            <a:ext cx="2474280" cy="150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42840" y="5997240"/>
            <a:ext cx="676440" cy="351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is look famili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0" y="1447560"/>
            <a:ext cx="8458200" cy="480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O.K., now it’s time to move forward with some new stuff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828800" y="3962520"/>
            <a:ext cx="5181480" cy="1828800"/>
          </a:xfrm>
          <a:custGeom>
            <a:avLst/>
            <a:gdLst>
              <a:gd name="textAreaLeft" fmla="*/ 809640 w 5181480"/>
              <a:gd name="textAreaRight" fmla="*/ 4533840 w 518148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838080" y="457200"/>
            <a:ext cx="7543800" cy="1752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in the world would you find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re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a circ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2"/>
          <a:stretch/>
        </p:blipFill>
        <p:spPr>
          <a:xfrm>
            <a:off x="1143000" y="28623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Oval 7"/>
          <p:cNvSpPr/>
          <p:nvPr/>
        </p:nvSpPr>
        <p:spPr>
          <a:xfrm>
            <a:off x="4876920" y="3048120"/>
            <a:ext cx="175248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90720" y="380880"/>
            <a:ext cx="7086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, area is always measured in square un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895480" y="2819520"/>
            <a:ext cx="3048120" cy="2819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the area of a rectangle is length x width because you’re calculating the total number of squares inside of the rectangl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00200" y="3352680"/>
            <a:ext cx="5562720" cy="22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600200" y="4419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26708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89548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715000" y="335268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33520" y="3733920"/>
            <a:ext cx="129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200400" y="5715000"/>
            <a:ext cx="2514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762120" y="380880"/>
            <a:ext cx="7696080" cy="2895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first make sure that we understand the difference between circumference and ar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0" y="3836880"/>
            <a:ext cx="24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’s fine and dandy, but a circle is not a polygon.  It does not have straight sides; it has cur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are we going to get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these curv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027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5"/>
          <p:cNvSpPr/>
          <p:nvPr/>
        </p:nvSpPr>
        <p:spPr>
          <a:xfrm>
            <a:off x="3124080" y="2286000"/>
            <a:ext cx="3200400" cy="3200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ine chopping up the circle as if it were a piz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124080" y="388620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724280" y="228600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631680" y="2718000"/>
            <a:ext cx="2187000" cy="2336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591360" y="2756880"/>
            <a:ext cx="2269440" cy="22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, let’s rearrange our “pizza” into another shap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5"/>
          <p:cNvSpPr/>
          <p:nvPr/>
        </p:nvSpPr>
        <p:spPr>
          <a:xfrm>
            <a:off x="4724280" y="3886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"/>
          <p:cNvSpPr/>
          <p:nvPr/>
        </p:nvSpPr>
        <p:spPr>
          <a:xfrm rot="2668800">
            <a:off x="3809520" y="4038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 rot="18742200">
            <a:off x="5334120" y="320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8"/>
          <p:cNvSpPr/>
          <p:nvPr/>
        </p:nvSpPr>
        <p:spPr>
          <a:xfrm rot="5463000">
            <a:off x="2895120" y="35812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9"/>
          <p:cNvSpPr/>
          <p:nvPr/>
        </p:nvSpPr>
        <p:spPr>
          <a:xfrm rot="16033200">
            <a:off x="5105520" y="22856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 rot="13360200">
            <a:off x="4190760" y="17517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1"/>
          <p:cNvSpPr/>
          <p:nvPr/>
        </p:nvSpPr>
        <p:spPr>
          <a:xfrm rot="10699800">
            <a:off x="3199680" y="1980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2"/>
          <p:cNvSpPr/>
          <p:nvPr/>
        </p:nvSpPr>
        <p:spPr>
          <a:xfrm rot="8177400">
            <a:off x="2590560" y="2666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5105520" y="4267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4"/>
          <p:cNvSpPr/>
          <p:nvPr/>
        </p:nvSpPr>
        <p:spPr>
          <a:xfrm rot="2668800">
            <a:off x="3428640" y="4267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5"/>
          <p:cNvSpPr/>
          <p:nvPr/>
        </p:nvSpPr>
        <p:spPr>
          <a:xfrm rot="18742200">
            <a:off x="6248520" y="3504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6"/>
          <p:cNvSpPr/>
          <p:nvPr/>
        </p:nvSpPr>
        <p:spPr>
          <a:xfrm rot="5463000">
            <a:off x="2133360" y="3809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7"/>
          <p:cNvSpPr/>
          <p:nvPr/>
        </p:nvSpPr>
        <p:spPr>
          <a:xfrm rot="16033200">
            <a:off x="5791320" y="1828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8"/>
          <p:cNvSpPr/>
          <p:nvPr/>
        </p:nvSpPr>
        <p:spPr>
          <a:xfrm rot="13360200">
            <a:off x="4190760" y="17517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9"/>
          <p:cNvSpPr/>
          <p:nvPr/>
        </p:nvSpPr>
        <p:spPr>
          <a:xfrm rot="10699800">
            <a:off x="297108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0"/>
          <p:cNvSpPr/>
          <p:nvPr/>
        </p:nvSpPr>
        <p:spPr>
          <a:xfrm rot="8177400">
            <a:off x="190476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487692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"/>
          <p:cNvSpPr/>
          <p:nvPr/>
        </p:nvSpPr>
        <p:spPr>
          <a:xfrm rot="8500200">
            <a:off x="3199680" y="403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"/>
          <p:cNvSpPr/>
          <p:nvPr/>
        </p:nvSpPr>
        <p:spPr>
          <a:xfrm rot="12927600">
            <a:off x="6019560" y="35809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"/>
          <p:cNvSpPr/>
          <p:nvPr/>
        </p:nvSpPr>
        <p:spPr>
          <a:xfrm rot="3496200">
            <a:off x="2133360" y="3809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6"/>
          <p:cNvSpPr/>
          <p:nvPr/>
        </p:nvSpPr>
        <p:spPr>
          <a:xfrm rot="19623000">
            <a:off x="5791320" y="1828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"/>
          <p:cNvSpPr/>
          <p:nvPr/>
        </p:nvSpPr>
        <p:spPr>
          <a:xfrm rot="13360200">
            <a:off x="4190760" y="1980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8"/>
          <p:cNvSpPr/>
          <p:nvPr/>
        </p:nvSpPr>
        <p:spPr>
          <a:xfrm rot="6688200">
            <a:off x="297144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9"/>
          <p:cNvSpPr/>
          <p:nvPr/>
        </p:nvSpPr>
        <p:spPr>
          <a:xfrm rot="11359200">
            <a:off x="190440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487692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"/>
          <p:cNvSpPr/>
          <p:nvPr/>
        </p:nvSpPr>
        <p:spPr>
          <a:xfrm rot="4012200">
            <a:off x="3200040" y="4038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4"/>
          <p:cNvSpPr/>
          <p:nvPr/>
        </p:nvSpPr>
        <p:spPr>
          <a:xfrm rot="8170200">
            <a:off x="6019560" y="35809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5"/>
          <p:cNvSpPr/>
          <p:nvPr/>
        </p:nvSpPr>
        <p:spPr>
          <a:xfrm rot="1879200">
            <a:off x="2209320" y="304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6"/>
          <p:cNvSpPr/>
          <p:nvPr/>
        </p:nvSpPr>
        <p:spPr>
          <a:xfrm rot="15259800">
            <a:off x="5790960" y="1828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7"/>
          <p:cNvSpPr/>
          <p:nvPr/>
        </p:nvSpPr>
        <p:spPr>
          <a:xfrm rot="13360200">
            <a:off x="4190760" y="1980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8"/>
          <p:cNvSpPr/>
          <p:nvPr/>
        </p:nvSpPr>
        <p:spPr>
          <a:xfrm rot="9519600">
            <a:off x="2971440" y="1752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rot="11359200">
            <a:off x="114228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2"/>
          <p:cNvSpPr/>
          <p:nvPr/>
        </p:nvSpPr>
        <p:spPr>
          <a:xfrm rot="642000">
            <a:off x="4876560" y="3962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3"/>
          <p:cNvSpPr/>
          <p:nvPr/>
        </p:nvSpPr>
        <p:spPr>
          <a:xfrm rot="2174400">
            <a:off x="3429000" y="35053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"/>
          <p:cNvSpPr/>
          <p:nvPr/>
        </p:nvSpPr>
        <p:spPr>
          <a:xfrm rot="5988000">
            <a:off x="6171480" y="4114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5"/>
          <p:cNvSpPr/>
          <p:nvPr/>
        </p:nvSpPr>
        <p:spPr>
          <a:xfrm rot="1383000">
            <a:off x="19051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6"/>
          <p:cNvSpPr/>
          <p:nvPr/>
        </p:nvSpPr>
        <p:spPr>
          <a:xfrm rot="13891800">
            <a:off x="533376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7"/>
          <p:cNvSpPr/>
          <p:nvPr/>
        </p:nvSpPr>
        <p:spPr>
          <a:xfrm rot="13360200">
            <a:off x="39621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8"/>
          <p:cNvSpPr/>
          <p:nvPr/>
        </p:nvSpPr>
        <p:spPr>
          <a:xfrm rot="11374200">
            <a:off x="2666520" y="2133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1178400">
            <a:off x="5028840" y="312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3"/>
          <p:cNvSpPr/>
          <p:nvPr/>
        </p:nvSpPr>
        <p:spPr>
          <a:xfrm rot="1787400">
            <a:off x="342900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"/>
          <p:cNvSpPr/>
          <p:nvPr/>
        </p:nvSpPr>
        <p:spPr>
          <a:xfrm rot="4624200">
            <a:off x="6705360" y="365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5"/>
          <p:cNvSpPr/>
          <p:nvPr/>
        </p:nvSpPr>
        <p:spPr>
          <a:xfrm rot="1383000">
            <a:off x="175248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6"/>
          <p:cNvSpPr/>
          <p:nvPr/>
        </p:nvSpPr>
        <p:spPr>
          <a:xfrm rot="11505000">
            <a:off x="5257080" y="25142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7"/>
          <p:cNvSpPr/>
          <p:nvPr/>
        </p:nvSpPr>
        <p:spPr>
          <a:xfrm rot="12358800">
            <a:off x="380952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8"/>
          <p:cNvSpPr/>
          <p:nvPr/>
        </p:nvSpPr>
        <p:spPr>
          <a:xfrm rot="11979600">
            <a:off x="2209320" y="2361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 rot="1178400">
            <a:off x="44953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4"/>
          <p:cNvSpPr/>
          <p:nvPr/>
        </p:nvSpPr>
        <p:spPr>
          <a:xfrm rot="2294400">
            <a:off x="6476760" y="312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6"/>
          <p:cNvSpPr/>
          <p:nvPr/>
        </p:nvSpPr>
        <p:spPr>
          <a:xfrm rot="11505000">
            <a:off x="49521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a circle is the perimeter of the circl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048120" y="2362320"/>
            <a:ext cx="2895480" cy="2743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4"/>
          <p:cNvSpPr/>
          <p:nvPr/>
        </p:nvSpPr>
        <p:spPr>
          <a:xfrm rot="2294400">
            <a:off x="5866920" y="30481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6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2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4"/>
          <p:cNvSpPr/>
          <p:nvPr/>
        </p:nvSpPr>
        <p:spPr>
          <a:xfrm rot="963000">
            <a:off x="5486040" y="2895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5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6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8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9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752480" y="685800"/>
            <a:ext cx="4724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REST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"/>
          <p:cNvSpPr/>
          <p:nvPr/>
        </p:nvSpPr>
        <p:spPr>
          <a:xfrm flipH="1">
            <a:off x="838080" y="304920"/>
            <a:ext cx="7391520" cy="1600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Mr. Dunlap!  But what in the world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5"/>
          <p:cNvSpPr/>
          <p:nvPr/>
        </p:nvSpPr>
        <p:spPr>
          <a:xfrm rot="1178400">
            <a:off x="4266720" y="29718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6"/>
          <p:cNvSpPr/>
          <p:nvPr/>
        </p:nvSpPr>
        <p:spPr>
          <a:xfrm rot="1336200">
            <a:off x="2971440" y="29714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7"/>
          <p:cNvSpPr/>
          <p:nvPr/>
        </p:nvSpPr>
        <p:spPr>
          <a:xfrm rot="963000">
            <a:off x="5486040" y="28954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8"/>
          <p:cNvSpPr/>
          <p:nvPr/>
        </p:nvSpPr>
        <p:spPr>
          <a:xfrm rot="1383000">
            <a:off x="1676520" y="28195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9"/>
          <p:cNvSpPr/>
          <p:nvPr/>
        </p:nvSpPr>
        <p:spPr>
          <a:xfrm rot="11851800">
            <a:off x="4419360" y="2590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0"/>
          <p:cNvSpPr/>
          <p:nvPr/>
        </p:nvSpPr>
        <p:spPr>
          <a:xfrm rot="12117000">
            <a:off x="3199680" y="25902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1"/>
          <p:cNvSpPr/>
          <p:nvPr/>
        </p:nvSpPr>
        <p:spPr>
          <a:xfrm rot="12132000">
            <a:off x="1904760" y="25138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2"/>
          <p:cNvSpPr/>
          <p:nvPr/>
        </p:nvSpPr>
        <p:spPr>
          <a:xfrm rot="12265800">
            <a:off x="609120" y="24375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 flipH="1">
            <a:off x="533520" y="0"/>
            <a:ext cx="8076960" cy="37339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 it or not, this is really our “friend” the parallelogram.  And, we know how to calculate the area of a parallelogr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7924680" y="4572000"/>
            <a:ext cx="752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 flipH="1">
            <a:off x="1066680" y="304920"/>
            <a:ext cx="685800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ts!  He always has an answer for every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Object 4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4046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a = Base x H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828800" y="2666880"/>
            <a:ext cx="6781680" cy="1371600"/>
          </a:xfrm>
          <a:prstGeom prst="parallelogram">
            <a:avLst>
              <a:gd name="adj" fmla="val 123609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 rot="16231800">
            <a:off x="5630400" y="2063520"/>
            <a:ext cx="922320" cy="50212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0680 h 5021280"/>
              <a:gd name="textAreaBottom" fmla="*/ 4890600 h 502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34120" y="5029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029200" y="26668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76720" y="3048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6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ind the area of the circle (which is now a parallelogram), we just need to multiply the Base by the He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6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height of this “parallelogram” is really the radius of the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590920" y="603396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/2 of Circum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Base is really 1/2 of the circumfer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2590920" y="60339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/2 of Diameter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The circumference is really   Diameter x  </a:t>
            </a:r>
            <a:r>
              <a:rPr b="0" lang="en-US" sz="7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agine that the circle is straightening itself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>
            <a:off x="3018240" y="3732840"/>
            <a:ext cx="1477080" cy="1400400"/>
          </a:xfrm>
          <a:prstGeom prst="curvedConnector5">
            <a:avLst>
              <a:gd name="adj1" fmla="val 7411"/>
              <a:gd name="adj2" fmla="val 45075"/>
              <a:gd name="adj3" fmla="val 7411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4" name="AutoShape 6"/>
          <p:cNvCxnSpPr/>
          <p:nvPr/>
        </p:nvCxnSpPr>
        <p:spPr>
          <a:xfrm flipV="1" rot="16200000">
            <a:off x="2783880" y="3421800"/>
            <a:ext cx="2399400" cy="1024560"/>
          </a:xfrm>
          <a:prstGeom prst="curvedConnector5">
            <a:avLst>
              <a:gd name="adj1" fmla="val 5612"/>
              <a:gd name="adj2" fmla="val -73778"/>
              <a:gd name="adj3" fmla="val 5612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9092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t a minute! 1/2 of a Diameter is really a Radiu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4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6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7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8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9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0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1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603396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if we multiply the Base x H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really multiply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Radius x </a:t>
            </a: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7"/>
          <p:cNvSpPr/>
          <p:nvPr/>
        </p:nvSpPr>
        <p:spPr>
          <a:xfrm rot="1178400">
            <a:off x="4495320" y="37479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8"/>
          <p:cNvSpPr/>
          <p:nvPr/>
        </p:nvSpPr>
        <p:spPr>
          <a:xfrm rot="1336200">
            <a:off x="3200040" y="37476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9"/>
          <p:cNvSpPr/>
          <p:nvPr/>
        </p:nvSpPr>
        <p:spPr>
          <a:xfrm rot="963000">
            <a:off x="5714640" y="367200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0"/>
          <p:cNvSpPr/>
          <p:nvPr/>
        </p:nvSpPr>
        <p:spPr>
          <a:xfrm rot="1383000">
            <a:off x="1905120" y="35956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1"/>
          <p:cNvSpPr/>
          <p:nvPr/>
        </p:nvSpPr>
        <p:spPr>
          <a:xfrm rot="11851800">
            <a:off x="4647960" y="336672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2"/>
          <p:cNvSpPr/>
          <p:nvPr/>
        </p:nvSpPr>
        <p:spPr>
          <a:xfrm rot="12117000">
            <a:off x="3428280" y="336636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3"/>
          <p:cNvSpPr/>
          <p:nvPr/>
        </p:nvSpPr>
        <p:spPr>
          <a:xfrm rot="12132000">
            <a:off x="2133360" y="329004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24"/>
          <p:cNvSpPr/>
          <p:nvPr/>
        </p:nvSpPr>
        <p:spPr>
          <a:xfrm rot="12265800">
            <a:off x="837720" y="3214080"/>
            <a:ext cx="1143000" cy="1600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720" h="1008">
                <a:moveTo>
                  <a:pt x="0" y="1008"/>
                </a:moveTo>
                <a:lnTo>
                  <a:pt x="0" y="0"/>
                </a:lnTo>
                <a:lnTo>
                  <a:pt x="720" y="720"/>
                </a:lnTo>
                <a:lnTo>
                  <a:pt x="576" y="864"/>
                </a:lnTo>
                <a:lnTo>
                  <a:pt x="336" y="960"/>
                </a:lnTo>
                <a:lnTo>
                  <a:pt x="14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 rot="16231800">
            <a:off x="3728160" y="2989800"/>
            <a:ext cx="922320" cy="5181480"/>
          </a:xfrm>
          <a:custGeom>
            <a:avLst/>
            <a:gdLst>
              <a:gd name="textAreaLeft" fmla="*/ 589320 w 922320"/>
              <a:gd name="textAreaRight" fmla="*/ 922680 w 9223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35"/>
                </a:lnTo>
                <a:cubicBezTo>
                  <a:pt x="10800" y="10335"/>
                  <a:pt x="5400" y="11235"/>
                  <a:pt x="0" y="11235"/>
                </a:cubicBezTo>
                <a:cubicBezTo>
                  <a:pt x="5400" y="11235"/>
                  <a:pt x="10800" y="12135"/>
                  <a:pt x="10800" y="130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259092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x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>
            <a:off x="5257800" y="351936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3505320" y="3900600"/>
            <a:ext cx="16761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3505320" y="38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AG00040_"/>
          <p:cNvPicPr/>
          <p:nvPr/>
        </p:nvPicPr>
        <p:blipFill>
          <a:blip r:embed="rId1"/>
          <a:stretch/>
        </p:blipFill>
        <p:spPr>
          <a:xfrm>
            <a:off x="2590920" y="2209680"/>
            <a:ext cx="418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Now let’s try this formula. 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5486400" y="35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228600" y="6091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x 5 x 3.14 = 78.5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486400" y="35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x 6 x 3.14 = 113.04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x 9 x 3.14 = 254.34 square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5181480" y="43434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AutoShape 6"/>
          <p:cNvCxnSpPr/>
          <p:nvPr/>
        </p:nvCxnSpPr>
        <p:spPr>
          <a:xfrm>
            <a:off x="2057400" y="2666880"/>
            <a:ext cx="3277440" cy="2286720"/>
          </a:xfrm>
          <a:prstGeom prst="curvedConnector5">
            <a:avLst>
              <a:gd name="adj1" fmla="val 4646"/>
              <a:gd name="adj2" fmla="val 49992"/>
              <a:gd name="adj3" fmla="val 4646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6" name="AutoShape 7"/>
          <p:cNvCxnSpPr/>
          <p:nvPr/>
        </p:nvCxnSpPr>
        <p:spPr>
          <a:xfrm flipV="1" rot="16200000">
            <a:off x="3047760" y="2666160"/>
            <a:ext cx="3582000" cy="991440"/>
          </a:xfrm>
          <a:prstGeom prst="curvedConnector5">
            <a:avLst>
              <a:gd name="adj1" fmla="val 100834"/>
              <a:gd name="adj2" fmla="val 49981"/>
              <a:gd name="adj3" fmla="val 100834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 x 10 x 3.14 = 314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6"/>
          <p:cNvSpPr/>
          <p:nvPr/>
        </p:nvSpPr>
        <p:spPr>
          <a:xfrm rot="16200000">
            <a:off x="1676160" y="1294920"/>
            <a:ext cx="228600" cy="533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38080" y="16765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ake sure that you use the radius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 x 7 x 3.14 = 153.86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6"/>
          <p:cNvSpPr/>
          <p:nvPr/>
        </p:nvSpPr>
        <p:spPr>
          <a:xfrm rot="16200000">
            <a:off x="1371600" y="129528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533520" y="16765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ake sure that you use the radius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) Find the area of this 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 x 11 x 3.14 = 379.94 c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429000" y="2666880"/>
            <a:ext cx="3581280" cy="33530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3429000" y="4343400"/>
            <a:ext cx="358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49568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1981080"/>
            <a:ext cx="83059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rea = Radius x Radius x  </a:t>
            </a:r>
            <a:r>
              <a:rPr b="0" lang="en-US" sz="5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2209680" y="4267080"/>
            <a:ext cx="4648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1752480" y="41911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t’s as easy as p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AutoShape 6"/>
          <p:cNvCxnSpPr/>
          <p:nvPr/>
        </p:nvCxnSpPr>
        <p:spPr>
          <a:xfrm flipH="1" flipV="1" rot="5400000">
            <a:off x="4724280" y="2057040"/>
            <a:ext cx="3505680" cy="2286720"/>
          </a:xfrm>
          <a:prstGeom prst="curvedConnector5">
            <a:avLst>
              <a:gd name="adj1" fmla="val 53979"/>
              <a:gd name="adj2" fmla="val 49992"/>
              <a:gd name="adj3" fmla="val 53979"/>
            </a:avLst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58" name="AutoShape 7"/>
          <p:cNvCxnSpPr/>
          <p:nvPr/>
        </p:nvCxnSpPr>
        <p:spPr>
          <a:xfrm flipV="1" rot="10800000">
            <a:off x="1447200" y="4952520"/>
            <a:ext cx="388692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" name="AutoShape 6"/>
          <p:cNvCxnSpPr/>
          <p:nvPr/>
        </p:nvCxnSpPr>
        <p:spPr>
          <a:xfrm flipV="1" rot="10800000">
            <a:off x="456480" y="1522800"/>
            <a:ext cx="6477840" cy="4953960"/>
          </a:xfrm>
          <a:prstGeom prst="curvedConnector5">
            <a:avLst>
              <a:gd name="adj1" fmla="val 49997"/>
              <a:gd name="adj2" fmla="val 50000"/>
              <a:gd name="adj3" fmla="val 49997"/>
            </a:avLst>
          </a:prstGeom>
          <a:ln w="57240">
            <a:solidFill>
              <a:srgbClr val="33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5"/>
          <p:cNvSpPr/>
          <p:nvPr/>
        </p:nvSpPr>
        <p:spPr>
          <a:xfrm flipV="1">
            <a:off x="0" y="304560"/>
            <a:ext cx="8686800" cy="655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304920"/>
            <a:ext cx="75438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ength of this l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gment is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 rot="3041400">
            <a:off x="4304880" y="-952560"/>
            <a:ext cx="1905120" cy="10515600"/>
          </a:xfrm>
          <a:custGeom>
            <a:avLst/>
            <a:gdLst>
              <a:gd name="textAreaLeft" fmla="*/ 0 w 1905120"/>
              <a:gd name="textAreaRight" fmla="*/ 687960 w 1905120"/>
              <a:gd name="textAreaTop" fmla="*/ 273960 h 10515600"/>
              <a:gd name="textAreaBottom" fmla="*/ 10241640 h 1051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64"/>
                </a:lnTo>
                <a:cubicBezTo>
                  <a:pt x="10800" y="9964"/>
                  <a:pt x="16200" y="10864"/>
                  <a:pt x="21600" y="10864"/>
                </a:cubicBezTo>
                <a:cubicBezTo>
                  <a:pt x="16200" y="10864"/>
                  <a:pt x="10800" y="11764"/>
                  <a:pt x="10800" y="126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562720" y="525780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1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rcumference is the same length as 3 diameters plus .14 of another diame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048120" y="2362320"/>
            <a:ext cx="2895480" cy="2743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048120" y="3733920"/>
            <a:ext cx="2895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9T15:23:46Z</dcterms:created>
  <dc:creator>Mariemont City Schools</dc:creator>
  <dc:description/>
  <dc:language>en-US</dc:language>
  <cp:lastModifiedBy> </cp:lastModifiedBy>
  <dcterms:modified xsi:type="dcterms:W3CDTF">2010-07-22T13:51:34Z</dcterms:modified>
  <cp:revision>5</cp:revision>
  <dc:subject/>
  <dc:title>How to calculate the area of a circle.</dc:title>
</cp:coreProperties>
</file>